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2B78-7C8F-4EEE-876E-1D2997AAA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0566-FC2C-48A8-8A67-18F78AACB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6FCA-5624-4766-B0A5-1DF518D49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9C63-67C7-4B6D-BD0E-CCFDFF48E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69C3-BA61-40F7-97E3-B62CC76A2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42EB-D961-4A34-B648-01CFE1EDF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D1B3-3A08-4E65-853D-03AFB9247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F775-BD6F-4E42-B358-8D9FF2EF0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A245-B5B6-4AAF-A4BE-9345BCF74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BEF1-F235-4D73-B9C3-42B9F1BE5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3209-3821-4B00-ABF9-C965BCEF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8423-9FC4-48F5-977B-457A8F23D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80360-77F4-45BB-A495-207BD35B20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1a4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050920" y="1916280"/>
            <a:ext cx="5819760" cy="16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ow Can We Develop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ew Medicines?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0fda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Objectives:</a:t>
            </a:r>
            <a:br>
              <a:rPr sz="2000"/>
            </a:b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All pupils learn the stages in the development of new drugs.</a:t>
            </a:r>
            <a:br>
              <a:rPr sz="2000"/>
            </a:b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All will discover why drug testing is so impor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bdd77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tarter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Why do some people argue against animal test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Why do others think animal testing is essenti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What do you thin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bdd77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Objectives:</a:t>
            </a:r>
            <a:br>
              <a:rPr sz="2000"/>
            </a:b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All pupils learn the stages in the development of new drugs.</a:t>
            </a:r>
            <a:br>
              <a:rPr sz="2000"/>
            </a:b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All will discover why drug testing is so impor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6516720" cy="4525920"/>
          </a:xfrm>
          <a:prstGeom prst="rect">
            <a:avLst/>
          </a:prstGeom>
          <a:solidFill>
            <a:srgbClr val="ebdd77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are designing a new medic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key expecta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ill you judge whether it is successful or no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659640" y="2421000"/>
            <a:ext cx="22194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2060640"/>
            <a:ext cx="7201080" cy="3050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30401"/>
                </a:solidFill>
                <a:latin typeface="Arial"/>
              </a:rPr>
              <a:t>Scientists expect a new medicine to b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30401"/>
                </a:solidFill>
                <a:latin typeface="Arial"/>
              </a:rPr>
              <a:t>Eff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30401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30401"/>
                </a:solidFill>
                <a:latin typeface="Arial"/>
              </a:rPr>
              <a:t>S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30401"/>
                </a:solidFill>
                <a:latin typeface="Arial"/>
              </a:rPr>
              <a:t>Successfully taken into and removed from the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692280"/>
            <a:ext cx="7920000" cy="916920"/>
          </a:xfrm>
          <a:prstGeom prst="rect">
            <a:avLst/>
          </a:prstGeom>
          <a:solidFill>
            <a:srgbClr val="c0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Objectives:</a:t>
            </a:r>
            <a:br>
              <a:rPr sz="1800"/>
            </a:b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All pupils learn the stages in the development of new drugs.</a:t>
            </a:r>
            <a:br>
              <a:rPr sz="1800"/>
            </a:b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All will discover why drug testing is so impor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1280" y="5516640"/>
            <a:ext cx="8137440" cy="459720"/>
          </a:xfrm>
          <a:prstGeom prst="rect">
            <a:avLst/>
          </a:prstGeom>
          <a:solidFill>
            <a:srgbClr val="9304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Can you explain what each of these statements me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0fda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Objectives:</a:t>
            </a:r>
            <a:br>
              <a:rPr sz="2000"/>
            </a:b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All pupils learn the stages in the development of new drugs.</a:t>
            </a:r>
            <a:br>
              <a:rPr sz="2000"/>
            </a:b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All will discover why drug testing is so impor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569080" cy="452592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0066"/>
                </a:solidFill>
                <a:latin typeface="Arial"/>
              </a:rPr>
              <a:t>Page 70 shows a flow diagram which demonstrates the stages in the development of a new dru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0066"/>
                </a:solidFill>
                <a:latin typeface="Arial"/>
              </a:rPr>
              <a:t>Use the Title ‘Developing New Medicines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0066"/>
                </a:solidFill>
                <a:latin typeface="Arial"/>
              </a:rPr>
              <a:t>Draw a simplified version of this flow chart giving each box  a short heading (not more than 6 words)  This can be done using the worksheet which gives an out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0fda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Objectives:</a:t>
            </a:r>
            <a:br>
              <a:rPr sz="2000"/>
            </a:b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All pupils learn the stages in the development of new drugs.</a:t>
            </a:r>
            <a:br>
              <a:rPr sz="2000"/>
            </a:b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All will discover why drug testing is so impor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s read the thalidomide s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47640" y="3141720"/>
            <a:ext cx="1775160" cy="2185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716360" y="2565360"/>
            <a:ext cx="360072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0fda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Objectives:</a:t>
            </a:r>
            <a:br>
              <a:rPr sz="2000"/>
            </a:b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All pupils learn the stages in the development of new drugs.</a:t>
            </a:r>
            <a:br>
              <a:rPr sz="2000"/>
            </a:b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All will discover why drug testing is so impor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Thalidomide time line sheet to transfer this story to you boo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ease now complete the summary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enar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at the key poi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guments might you use to persuade an animal rights protester that animal testing might be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9:47:39Z</dcterms:created>
  <dc:creator>Pat</dc:creator>
  <dc:description/>
  <dc:language>en-US</dc:language>
  <cp:lastModifiedBy>sthalliwellp</cp:lastModifiedBy>
  <dcterms:modified xsi:type="dcterms:W3CDTF">2006-10-17T13:27:38Z</dcterms:modified>
  <cp:revision>3</cp:revision>
  <dc:subject/>
  <dc:title>Slide 1</dc:title>
</cp:coreProperties>
</file>